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4B5BAAD-3484-4F5B-A050-58A45095ECCD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9AE3575-C3AA-48BA-B9AD-51BDB486021C}" type="slidenum">
              <a:rPr b="0" lang="pt-B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7F029A-E777-48F7-ADC6-B24BCA6B2419}" type="slidenum">
              <a:rPr b="0" lang="pt-B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BBB-41AF-4FF8-A5CB-A49F48BD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49C-2971-48FC-BE5B-1A9A101F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781-037F-4824-AFFA-009DBE80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C25-910E-4D1E-A0E4-413C0C4A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5484-D6E1-4911-9AF1-61032CED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9268-F459-488E-9532-5984DD6D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6DC9-B75D-46BD-8E9B-7C6290A9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2F25-C5FB-422A-9F71-1ACA4AFE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5DE1-BA87-4B35-95F3-76C3A79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436F-3A97-427A-8FA3-0C20765A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FC24-0D91-4298-9EE8-701057CB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F08-4025-4174-98BB-5D38297C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417B-4DB7-483C-9EC2-10EABEE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A011-C0ED-4220-B1FA-438ACA7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B630-5297-4BB7-A1C6-CC1D9A7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221C-A263-4920-BBF9-3EC81D3F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AA12-C093-4A72-A96F-4EA519B8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182-A739-48D5-8459-E6B92914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461-78EB-4A48-9A1F-E9588B20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545-0E0C-42D9-BC86-BA602A5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D39-FCE6-4B9D-8ADD-F0109AC2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255-213D-49A6-8EFD-A62C35AD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659-3C25-4D0B-AA58-48775892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A09-0DCE-4920-8805-8253852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813F-F184-4BD5-99F2-1824E180BC98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9D2E-502B-41C5-B5C3-C93EF32E617D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fsalim@iema.es.gov.br" TargetMode="External"/><Relationship Id="rId2" Type="http://schemas.openxmlformats.org/officeDocument/2006/relationships/hyperlink" Target="mailto:flaviasalim@hotmail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000080" y="1928880"/>
            <a:ext cx="76438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Lucida Sans"/>
              </a:rPr>
              <a:t>APLICAÇÃO DE METAS PROGRESSIVAS NO PROCESSO DE OUTORGA PARA DILUIÇÃO DE EFLU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28760" y="4786200"/>
            <a:ext cx="83484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Wesley Gabrieli de Sou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Flavia Pitanga Calil Sali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Luciano Meneses Cardoso da Sil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Lucida Sans"/>
              </a:rPr>
              <a:t>Campo Grande – 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Lucida Sans"/>
              </a:rPr>
              <a:t>Novembro/200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748480" cy="7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900000" y="6429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Elipse 5"/>
          <p:cNvSpPr/>
          <p:nvPr/>
        </p:nvSpPr>
        <p:spPr>
          <a:xfrm>
            <a:off x="6357960" y="51436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0" t="0" r="47861" b="0"/>
          <a:stretch/>
        </p:blipFill>
        <p:spPr>
          <a:xfrm>
            <a:off x="500040" y="1857240"/>
            <a:ext cx="6164280" cy="2233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rcRect l="47460" t="0" r="0" b="0"/>
          <a:stretch/>
        </p:blipFill>
        <p:spPr>
          <a:xfrm>
            <a:off x="1714680" y="4286160"/>
            <a:ext cx="6356160" cy="2286000"/>
          </a:xfrm>
          <a:prstGeom prst="rect">
            <a:avLst/>
          </a:prstGeom>
          <a:ln w="0">
            <a:noFill/>
          </a:ln>
        </p:spPr>
      </p:pic>
      <p:sp>
        <p:nvSpPr>
          <p:cNvPr id="260" name="Elipse 12"/>
          <p:cNvSpPr/>
          <p:nvPr/>
        </p:nvSpPr>
        <p:spPr>
          <a:xfrm>
            <a:off x="4286160" y="30718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Conector de seta reta 14"/>
          <p:cNvCxnSpPr/>
          <p:nvPr/>
        </p:nvCxnSpPr>
        <p:spPr>
          <a:xfrm flipV="1">
            <a:off x="4785840" y="2571480"/>
            <a:ext cx="20725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CaixaDeTexto 16"/>
          <p:cNvSpPr/>
          <p:nvPr/>
        </p:nvSpPr>
        <p:spPr>
          <a:xfrm>
            <a:off x="6858000" y="2357280"/>
            <a:ext cx="214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adrão Intermediário (prazo 6 anos – 25% do inicial - adequação para uma DBO de 70 mg/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Elipse 18"/>
          <p:cNvSpPr/>
          <p:nvPr/>
        </p:nvSpPr>
        <p:spPr>
          <a:xfrm>
            <a:off x="5857920" y="30718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28800" y="5554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 FIN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468360" y="1773360"/>
            <a:ext cx="6321240" cy="2233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411280" y="4149720"/>
            <a:ext cx="6143760" cy="2238480"/>
          </a:xfrm>
          <a:prstGeom prst="rect">
            <a:avLst/>
          </a:prstGeom>
          <a:ln w="0">
            <a:noFill/>
          </a:ln>
        </p:spPr>
      </p:pic>
      <p:sp>
        <p:nvSpPr>
          <p:cNvPr id="267" name="Elipse 10"/>
          <p:cNvSpPr/>
          <p:nvPr/>
        </p:nvSpPr>
        <p:spPr>
          <a:xfrm>
            <a:off x="5796000" y="299736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Elipse 11"/>
          <p:cNvSpPr/>
          <p:nvPr/>
        </p:nvSpPr>
        <p:spPr>
          <a:xfrm>
            <a:off x="6516720" y="5805360"/>
            <a:ext cx="7142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Elipse 10"/>
          <p:cNvSpPr/>
          <p:nvPr/>
        </p:nvSpPr>
        <p:spPr>
          <a:xfrm>
            <a:off x="4284720" y="299736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900000" y="54936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900000" y="2071800"/>
            <a:ext cx="80647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4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900000" y="1857240"/>
            <a:ext cx="8101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Alternativa interessante no processo de regularização e adequação dos usuários (lançamentos)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prevê a melhoria e trabalha com prazos para implant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ão substitui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o instrumento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enquadramento e suas metas intermediárias de qualidade,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sendo apenas uma alternativa de caráter transitó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Importância de observar 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efeitos sobre o oxigênio dissolvido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quando da flexibilização (adotado pelo ES recentemen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857160" y="2500200"/>
            <a:ext cx="764388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Lucida Sans"/>
              </a:rPr>
              <a:t>Obrigada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33cc"/>
                </a:solidFill>
                <a:uFillTx/>
                <a:latin typeface="Lucida Sans"/>
                <a:hlinkClick r:id="rId1"/>
              </a:rPr>
              <a:t>fsalim@iema.es.gov.b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33cc"/>
                </a:solidFill>
                <a:uFillTx/>
                <a:latin typeface="Lucida Sans"/>
                <a:hlinkClick r:id="rId2"/>
              </a:rPr>
              <a:t>flaviasalim@hotmail.com</a:t>
            </a:r>
            <a:r>
              <a:rPr b="1" lang="pt-BR" sz="1800" spc="-1" strike="noStrike">
                <a:solidFill>
                  <a:srgbClr val="00206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900000" y="765000"/>
            <a:ext cx="73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ASPECTOS CONCEIT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42960" y="1928880"/>
            <a:ext cx="81770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Outorga para diluição de efluentes </a:t>
            </a:r>
            <a:r>
              <a:rPr b="0" lang="pt-BR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VAZÃO DE DILUI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Quantidade de água necessária para diluir determinado poluente a uma concentração pré-estabelecida (padrão)”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upo 3"/>
          <p:cNvGrpSpPr/>
          <p:nvPr/>
        </p:nvGrpSpPr>
        <p:grpSpPr>
          <a:xfrm>
            <a:off x="448920" y="3071880"/>
            <a:ext cx="8312400" cy="3286080"/>
            <a:chOff x="448920" y="3071880"/>
            <a:chExt cx="8312400" cy="3286080"/>
          </a:xfrm>
        </p:grpSpPr>
        <mc:AlternateContent>
          <mc:Choice xmlns:a14="http://schemas.microsoft.com/office/drawing/2010/main" Requires="a14">
            <p:sp>
              <p:nvSpPr>
                <p:cNvPr id="122" name="Object 1"/>
                <p:cNvSpPr txBox="1"/>
                <p:nvPr/>
              </p:nvSpPr>
              <p:spPr>
                <a:xfrm>
                  <a:off x="2666520" y="5678640"/>
                  <a:ext cx="271440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Qdilui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e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na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23" name="Group 5"/>
            <p:cNvGrpSpPr/>
            <p:nvPr/>
          </p:nvGrpSpPr>
          <p:grpSpPr>
            <a:xfrm>
              <a:off x="448920" y="3071880"/>
              <a:ext cx="2743920" cy="2304720"/>
              <a:chOff x="448920" y="3071880"/>
              <a:chExt cx="2743920" cy="2304720"/>
            </a:xfrm>
          </p:grpSpPr>
          <p:grpSp>
            <p:nvGrpSpPr>
              <p:cNvPr id="124" name="Group 6"/>
              <p:cNvGrpSpPr/>
              <p:nvPr/>
            </p:nvGrpSpPr>
            <p:grpSpPr>
              <a:xfrm>
                <a:off x="959400" y="3071880"/>
                <a:ext cx="1645200" cy="1578240"/>
                <a:chOff x="959400" y="3071880"/>
                <a:chExt cx="1645200" cy="1578240"/>
              </a:xfrm>
            </p:grpSpPr>
            <p:sp>
              <p:nvSpPr>
                <p:cNvPr id="125" name="Rectangle 7"/>
                <p:cNvSpPr/>
                <p:nvPr/>
              </p:nvSpPr>
              <p:spPr>
                <a:xfrm>
                  <a:off x="1149120" y="3203640"/>
                  <a:ext cx="1329480" cy="14464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Rectangle 8"/>
                <p:cNvSpPr/>
                <p:nvPr/>
              </p:nvSpPr>
              <p:spPr>
                <a:xfrm>
                  <a:off x="959400" y="3071880"/>
                  <a:ext cx="1645200" cy="196560"/>
                </a:xfrm>
                <a:prstGeom prst="rect">
                  <a:avLst/>
                </a:prstGeom>
                <a:solidFill>
                  <a:srgbClr val="d6da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7" name="Rectangle 9"/>
              <p:cNvSpPr/>
              <p:nvPr/>
            </p:nvSpPr>
            <p:spPr>
              <a:xfrm>
                <a:off x="1149480" y="4321440"/>
                <a:ext cx="1329480" cy="329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10"/>
              <p:cNvSpPr/>
              <p:nvPr/>
            </p:nvSpPr>
            <p:spPr>
              <a:xfrm>
                <a:off x="448920" y="4736160"/>
                <a:ext cx="27439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Vol. efluente (Qe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entração Efluente (Ce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9" name="Rectangle 11"/>
            <p:cNvSpPr/>
            <p:nvPr/>
          </p:nvSpPr>
          <p:spPr>
            <a:xfrm>
              <a:off x="3679920" y="3203640"/>
              <a:ext cx="1329840" cy="1446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489840" y="3071880"/>
              <a:ext cx="1645200" cy="196920"/>
            </a:xfrm>
            <a:prstGeom prst="rect">
              <a:avLst/>
            </a:prstGeom>
            <a:solidFill>
              <a:srgbClr val="d6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2805120" y="3541320"/>
              <a:ext cx="52812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3679920" y="3860280"/>
              <a:ext cx="1329840" cy="78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3025440" y="4754880"/>
              <a:ext cx="2832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Vol. Água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(Qdilui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Natural (Cnat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4" name="Group 16"/>
            <p:cNvGrpSpPr/>
            <p:nvPr/>
          </p:nvGrpSpPr>
          <p:grpSpPr>
            <a:xfrm>
              <a:off x="5436720" y="3071880"/>
              <a:ext cx="3324600" cy="2311920"/>
              <a:chOff x="5436720" y="3071880"/>
              <a:chExt cx="3324600" cy="2311920"/>
            </a:xfrm>
          </p:grpSpPr>
          <p:grpSp>
            <p:nvGrpSpPr>
              <p:cNvPr id="135" name="Group 17"/>
              <p:cNvGrpSpPr/>
              <p:nvPr/>
            </p:nvGrpSpPr>
            <p:grpSpPr>
              <a:xfrm>
                <a:off x="6211080" y="3071880"/>
                <a:ext cx="1645560" cy="1577880"/>
                <a:chOff x="6211080" y="3071880"/>
                <a:chExt cx="1645560" cy="157788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6400800" y="3203640"/>
                  <a:ext cx="1329840" cy="14461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6211080" y="3071880"/>
                  <a:ext cx="1645560" cy="196560"/>
                </a:xfrm>
                <a:prstGeom prst="rect">
                  <a:avLst/>
                </a:prstGeom>
                <a:solidFill>
                  <a:srgbClr val="d6da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8" name="Text Box 20"/>
              <p:cNvSpPr/>
              <p:nvPr/>
            </p:nvSpPr>
            <p:spPr>
              <a:xfrm>
                <a:off x="5536440" y="352836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Rectangle 21"/>
              <p:cNvSpPr/>
              <p:nvPr/>
            </p:nvSpPr>
            <p:spPr>
              <a:xfrm>
                <a:off x="6399720" y="3476520"/>
                <a:ext cx="1329840" cy="1173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22"/>
              <p:cNvSpPr/>
              <p:nvPr/>
            </p:nvSpPr>
            <p:spPr>
              <a:xfrm>
                <a:off x="5436720" y="4743360"/>
                <a:ext cx="33246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Concentração permiti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Cmax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Enquadrament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32"/>
          <p:cNvSpPr/>
          <p:nvPr/>
        </p:nvSpPr>
        <p:spPr>
          <a:xfrm>
            <a:off x="395280" y="1197000"/>
            <a:ext cx="1546200" cy="762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Grupo 42"/>
          <p:cNvGrpSpPr/>
          <p:nvPr/>
        </p:nvGrpSpPr>
        <p:grpSpPr>
          <a:xfrm>
            <a:off x="272880" y="981000"/>
            <a:ext cx="8789760" cy="4684680"/>
            <a:chOff x="272880" y="981000"/>
            <a:chExt cx="8789760" cy="4684680"/>
          </a:xfrm>
        </p:grpSpPr>
        <p:sp>
          <p:nvSpPr>
            <p:cNvPr id="143" name="Oval 3"/>
            <p:cNvSpPr/>
            <p:nvPr/>
          </p:nvSpPr>
          <p:spPr>
            <a:xfrm>
              <a:off x="1481040" y="2295360"/>
              <a:ext cx="842760" cy="509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>
              <a:off x="2323800" y="1954080"/>
              <a:ext cx="422280" cy="509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5" name="Group 5"/>
            <p:cNvGrpSpPr/>
            <p:nvPr/>
          </p:nvGrpSpPr>
          <p:grpSpPr>
            <a:xfrm>
              <a:off x="776160" y="1915920"/>
              <a:ext cx="2180880" cy="1538280"/>
              <a:chOff x="776160" y="1915920"/>
              <a:chExt cx="2180880" cy="1538280"/>
            </a:xfrm>
          </p:grpSpPr>
          <p:sp>
            <p:nvSpPr>
              <p:cNvPr id="146" name="Oval 6"/>
              <p:cNvSpPr/>
              <p:nvPr/>
            </p:nvSpPr>
            <p:spPr>
              <a:xfrm>
                <a:off x="2535120" y="2944800"/>
                <a:ext cx="42192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Oval 7"/>
              <p:cNvSpPr/>
              <p:nvPr/>
            </p:nvSpPr>
            <p:spPr>
              <a:xfrm>
                <a:off x="1127880" y="1992240"/>
                <a:ext cx="353160" cy="509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Oval 8"/>
              <p:cNvSpPr/>
              <p:nvPr/>
            </p:nvSpPr>
            <p:spPr>
              <a:xfrm>
                <a:off x="776160" y="1915920"/>
                <a:ext cx="351720" cy="509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Oval 9"/>
              <p:cNvSpPr/>
              <p:nvPr/>
            </p:nvSpPr>
            <p:spPr>
              <a:xfrm>
                <a:off x="2323800" y="2487600"/>
                <a:ext cx="42192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0" name="Oval 10"/>
            <p:cNvSpPr/>
            <p:nvPr/>
          </p:nvSpPr>
          <p:spPr>
            <a:xfrm rot="21487800">
              <a:off x="7151400" y="4456080"/>
              <a:ext cx="582480" cy="4903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bc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1"/>
            <p:cNvSpPr/>
            <p:nvPr/>
          </p:nvSpPr>
          <p:spPr>
            <a:xfrm>
              <a:off x="7045560" y="5010120"/>
              <a:ext cx="422280" cy="4903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2" name="Group 12"/>
            <p:cNvGrpSpPr/>
            <p:nvPr/>
          </p:nvGrpSpPr>
          <p:grpSpPr>
            <a:xfrm>
              <a:off x="3633840" y="2057400"/>
              <a:ext cx="5063760" cy="3514320"/>
              <a:chOff x="3633840" y="2057400"/>
              <a:chExt cx="5063760" cy="3514320"/>
            </a:xfrm>
          </p:grpSpPr>
          <p:grpSp>
            <p:nvGrpSpPr>
              <p:cNvPr id="153" name="Group 13"/>
              <p:cNvGrpSpPr/>
              <p:nvPr/>
            </p:nvGrpSpPr>
            <p:grpSpPr>
              <a:xfrm>
                <a:off x="3633840" y="2523600"/>
                <a:ext cx="3165480" cy="2051280"/>
                <a:chOff x="3633840" y="2523600"/>
                <a:chExt cx="3165480" cy="2051280"/>
              </a:xfrm>
            </p:grpSpPr>
            <p:sp>
              <p:nvSpPr>
                <p:cNvPr id="154" name="Freeform 14"/>
                <p:cNvSpPr/>
                <p:nvPr/>
              </p:nvSpPr>
              <p:spPr>
                <a:xfrm>
                  <a:off x="3633840" y="2523600"/>
                  <a:ext cx="3165480" cy="205128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"/>
                <p:cNvSpPr/>
                <p:nvPr/>
              </p:nvSpPr>
              <p:spPr>
                <a:xfrm flipV="1">
                  <a:off x="3914640" y="2904840"/>
                  <a:ext cx="2391480" cy="4572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6" name="Group 16"/>
              <p:cNvGrpSpPr/>
              <p:nvPr/>
            </p:nvGrpSpPr>
            <p:grpSpPr>
              <a:xfrm>
                <a:off x="3633840" y="2057400"/>
                <a:ext cx="5063760" cy="3514320"/>
                <a:chOff x="3633840" y="2057400"/>
                <a:chExt cx="5063760" cy="3514320"/>
              </a:xfrm>
            </p:grpSpPr>
            <p:sp>
              <p:nvSpPr>
                <p:cNvPr id="157" name="Line 17"/>
                <p:cNvSpPr/>
                <p:nvPr/>
              </p:nvSpPr>
              <p:spPr>
                <a:xfrm>
                  <a:off x="3633840" y="282852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18"/>
                <p:cNvSpPr/>
                <p:nvPr/>
              </p:nvSpPr>
              <p:spPr>
                <a:xfrm>
                  <a:off x="6728400" y="259992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19"/>
                <p:cNvSpPr/>
                <p:nvPr/>
              </p:nvSpPr>
              <p:spPr>
                <a:xfrm>
                  <a:off x="5391720" y="458100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20"/>
                <p:cNvSpPr/>
                <p:nvPr/>
              </p:nvSpPr>
              <p:spPr>
                <a:xfrm>
                  <a:off x="6235920" y="2904840"/>
                  <a:ext cx="1899000" cy="990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21"/>
                <p:cNvSpPr/>
                <p:nvPr/>
              </p:nvSpPr>
              <p:spPr>
                <a:xfrm>
                  <a:off x="5532840" y="3514320"/>
                  <a:ext cx="3164760" cy="205092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22"/>
                <p:cNvSpPr/>
                <p:nvPr/>
              </p:nvSpPr>
              <p:spPr>
                <a:xfrm flipV="1">
                  <a:off x="5814000" y="3895200"/>
                  <a:ext cx="2391480" cy="4572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23"/>
                <p:cNvSpPr/>
                <p:nvPr/>
              </p:nvSpPr>
              <p:spPr>
                <a:xfrm>
                  <a:off x="3914640" y="3362040"/>
                  <a:ext cx="1899000" cy="990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24"/>
                <p:cNvSpPr/>
                <p:nvPr/>
              </p:nvSpPr>
              <p:spPr>
                <a:xfrm flipH="1" flipV="1">
                  <a:off x="7079760" y="2294640"/>
                  <a:ext cx="1265760" cy="685800"/>
                </a:xfrm>
                <a:prstGeom prst="line">
                  <a:avLst/>
                </a:prstGeom>
                <a:ln w="4140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Text Box 25"/>
                <p:cNvSpPr/>
                <p:nvPr/>
              </p:nvSpPr>
              <p:spPr>
                <a:xfrm rot="1610400">
                  <a:off x="7358400" y="2234520"/>
                  <a:ext cx="895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Fluxo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66" name="Group 26"/>
            <p:cNvGrpSpPr/>
            <p:nvPr/>
          </p:nvGrpSpPr>
          <p:grpSpPr>
            <a:xfrm>
              <a:off x="2503080" y="3781080"/>
              <a:ext cx="2218320" cy="1861560"/>
              <a:chOff x="2503080" y="3781080"/>
              <a:chExt cx="2218320" cy="1861560"/>
            </a:xfrm>
          </p:grpSpPr>
          <p:sp>
            <p:nvSpPr>
              <p:cNvPr id="167" name="Oval 27"/>
              <p:cNvSpPr/>
              <p:nvPr/>
            </p:nvSpPr>
            <p:spPr>
              <a:xfrm rot="133200">
                <a:off x="4125600" y="5145120"/>
                <a:ext cx="367560" cy="4903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bc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Text Box 28"/>
              <p:cNvSpPr/>
              <p:nvPr/>
            </p:nvSpPr>
            <p:spPr>
              <a:xfrm rot="1811400">
                <a:off x="2435040" y="4347720"/>
                <a:ext cx="2353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Parâmetro conservativ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29"/>
            <p:cNvGrpSpPr/>
            <p:nvPr/>
          </p:nvGrpSpPr>
          <p:grpSpPr>
            <a:xfrm>
              <a:off x="619200" y="3871440"/>
              <a:ext cx="2667240" cy="1794240"/>
              <a:chOff x="619200" y="3871440"/>
              <a:chExt cx="2667240" cy="1794240"/>
            </a:xfrm>
          </p:grpSpPr>
          <p:sp>
            <p:nvSpPr>
              <p:cNvPr id="170" name="Oval 30"/>
              <p:cNvSpPr/>
              <p:nvPr/>
            </p:nvSpPr>
            <p:spPr>
              <a:xfrm>
                <a:off x="2718720" y="5175360"/>
                <a:ext cx="281520" cy="4903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Text Box 31"/>
              <p:cNvSpPr/>
              <p:nvPr/>
            </p:nvSpPr>
            <p:spPr>
              <a:xfrm rot="1456800">
                <a:off x="572040" y="4422600"/>
                <a:ext cx="2760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Parâmetro não-conservativ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" name="Text Box 33"/>
            <p:cNvSpPr/>
            <p:nvPr/>
          </p:nvSpPr>
          <p:spPr>
            <a:xfrm>
              <a:off x="1697040" y="981000"/>
              <a:ext cx="1860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Humnst777 BT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3" name="Group 34"/>
            <p:cNvGrpSpPr/>
            <p:nvPr/>
          </p:nvGrpSpPr>
          <p:grpSpPr>
            <a:xfrm>
              <a:off x="2765520" y="1634760"/>
              <a:ext cx="6297120" cy="1093680"/>
              <a:chOff x="2765520" y="1634760"/>
              <a:chExt cx="6297120" cy="1093680"/>
            </a:xfrm>
          </p:grpSpPr>
          <p:sp>
            <p:nvSpPr>
              <p:cNvPr id="174" name="Oval 35"/>
              <p:cNvSpPr/>
              <p:nvPr/>
            </p:nvSpPr>
            <p:spPr>
              <a:xfrm>
                <a:off x="2765520" y="2219040"/>
                <a:ext cx="60948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bcb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Text Box 36"/>
              <p:cNvSpPr/>
              <p:nvPr/>
            </p:nvSpPr>
            <p:spPr>
              <a:xfrm>
                <a:off x="4351320" y="1634760"/>
                <a:ext cx="4711320" cy="51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Vazão indisponível com a concentração máxima d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classe de enquadrament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37"/>
              <p:cNvSpPr/>
              <p:nvPr/>
            </p:nvSpPr>
            <p:spPr>
              <a:xfrm flipH="1">
                <a:off x="3106800" y="1914120"/>
                <a:ext cx="13233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7" name="Group 38"/>
            <p:cNvGrpSpPr/>
            <p:nvPr/>
          </p:nvGrpSpPr>
          <p:grpSpPr>
            <a:xfrm>
              <a:off x="272880" y="1380960"/>
              <a:ext cx="4627440" cy="2050920"/>
              <a:chOff x="272880" y="1380960"/>
              <a:chExt cx="4627440" cy="2050920"/>
            </a:xfrm>
          </p:grpSpPr>
          <p:grpSp>
            <p:nvGrpSpPr>
              <p:cNvPr id="178" name="Group 39"/>
              <p:cNvGrpSpPr/>
              <p:nvPr/>
            </p:nvGrpSpPr>
            <p:grpSpPr>
              <a:xfrm>
                <a:off x="272880" y="1380960"/>
                <a:ext cx="4627440" cy="2050920"/>
                <a:chOff x="272880" y="1380960"/>
                <a:chExt cx="4627440" cy="2050920"/>
              </a:xfrm>
            </p:grpSpPr>
            <p:sp>
              <p:nvSpPr>
                <p:cNvPr id="179" name="Freeform 40"/>
                <p:cNvSpPr/>
                <p:nvPr/>
              </p:nvSpPr>
              <p:spPr>
                <a:xfrm>
                  <a:off x="272880" y="1380960"/>
                  <a:ext cx="4627440" cy="205092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41"/>
                <p:cNvSpPr/>
                <p:nvPr/>
              </p:nvSpPr>
              <p:spPr>
                <a:xfrm>
                  <a:off x="564480" y="1979280"/>
                  <a:ext cx="33062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1" name="Text Box 42"/>
              <p:cNvSpPr/>
              <p:nvPr/>
            </p:nvSpPr>
            <p:spPr>
              <a:xfrm>
                <a:off x="2079360" y="1690200"/>
                <a:ext cx="18036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Vazão de referênci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900000" y="765000"/>
            <a:ext cx="73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ASPECTOS CONCEIT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57160" y="1928880"/>
            <a:ext cx="79628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Quantificar a parcela de água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 comprometida por determinado despe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Interferências na qualidade são transformadas em </a:t>
            </a: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equivalentes quantitativos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” </a:t>
            </a:r>
            <a:r>
              <a:rPr b="0" lang="pt-BR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 facilita o balanço entre a disponibilidade e a 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Critério de Outorga no 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1058760" y="1928880"/>
                <a:ext cx="2941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u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643040" y="5000760"/>
                <a:ext cx="25988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Qdilui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%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Elipse 56"/>
          <p:cNvSpPr/>
          <p:nvPr/>
        </p:nvSpPr>
        <p:spPr>
          <a:xfrm>
            <a:off x="3071880" y="4857840"/>
            <a:ext cx="14288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aixaDeTexto 57"/>
          <p:cNvSpPr/>
          <p:nvPr/>
        </p:nvSpPr>
        <p:spPr>
          <a:xfrm>
            <a:off x="4572000" y="492912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arcela que “sobra” do uso consun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00000" y="333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DIFICUL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00000" y="1268280"/>
            <a:ext cx="8064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ursos de água com baixa disponibilidade hídr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Dificuldade de regularização dos usos existentes com base nos padrões de qualidade da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classe 2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de enquadra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0" t="0" r="46466" b="0"/>
          <a:stretch/>
        </p:blipFill>
        <p:spPr>
          <a:xfrm>
            <a:off x="285840" y="2357280"/>
            <a:ext cx="5786280" cy="2041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rcRect l="46793" t="0" r="0" b="0"/>
          <a:stretch/>
        </p:blipFill>
        <p:spPr>
          <a:xfrm>
            <a:off x="2714760" y="4500720"/>
            <a:ext cx="6035400" cy="2143080"/>
          </a:xfrm>
          <a:prstGeom prst="rect">
            <a:avLst/>
          </a:prstGeom>
          <a:ln w="0">
            <a:noFill/>
          </a:ln>
        </p:spPr>
      </p:pic>
      <p:sp>
        <p:nvSpPr>
          <p:cNvPr id="192" name="CaixaDeTexto 6"/>
          <p:cNvSpPr/>
          <p:nvPr/>
        </p:nvSpPr>
        <p:spPr>
          <a:xfrm>
            <a:off x="6500880" y="250020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Tahoma"/>
              </a:rPr>
              <a:t>Desconforto – não há água para diluir todos os despejos exist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Elipse 7"/>
          <p:cNvSpPr/>
          <p:nvPr/>
        </p:nvSpPr>
        <p:spPr>
          <a:xfrm>
            <a:off x="442908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Elipse 8"/>
          <p:cNvSpPr/>
          <p:nvPr/>
        </p:nvSpPr>
        <p:spPr>
          <a:xfrm>
            <a:off x="514368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Elipse 9"/>
          <p:cNvSpPr/>
          <p:nvPr/>
        </p:nvSpPr>
        <p:spPr>
          <a:xfrm>
            <a:off x="6858000" y="564372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Elipse 10"/>
          <p:cNvSpPr/>
          <p:nvPr/>
        </p:nvSpPr>
        <p:spPr>
          <a:xfrm>
            <a:off x="371484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CaixaDeTexto 6"/>
          <p:cNvSpPr/>
          <p:nvPr/>
        </p:nvSpPr>
        <p:spPr>
          <a:xfrm>
            <a:off x="6443640" y="335772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Tahoma"/>
              </a:rPr>
              <a:t>Desrespeitando Art. 13 da Lei 943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28800" y="3571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DIFICUL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28800" y="1071720"/>
            <a:ext cx="7929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Todos os usuários com uma melhoria de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100 mg/l para 40 mg/l - $$$$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Alternativa </a:t>
            </a:r>
            <a:r>
              <a:rPr b="0" lang="pt-BR" sz="16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flexibilizar o padrão de qualidade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(uma vez que o curso de água encontra-se degradad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285840" y="2143080"/>
            <a:ext cx="6321240" cy="2233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286000" y="4429080"/>
            <a:ext cx="6143760" cy="2238480"/>
          </a:xfrm>
          <a:prstGeom prst="rect">
            <a:avLst/>
          </a:prstGeom>
          <a:ln w="0">
            <a:noFill/>
          </a:ln>
        </p:spPr>
      </p:pic>
      <p:sp>
        <p:nvSpPr>
          <p:cNvPr id="202" name="Elipse 10"/>
          <p:cNvSpPr/>
          <p:nvPr/>
        </p:nvSpPr>
        <p:spPr>
          <a:xfrm>
            <a:off x="5643720" y="328608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Elipse 11"/>
          <p:cNvSpPr/>
          <p:nvPr/>
        </p:nvSpPr>
        <p:spPr>
          <a:xfrm>
            <a:off x="6357960" y="6072120"/>
            <a:ext cx="7142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900000" y="260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206" name="Group 4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207" name="Line 5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Line 6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7"/>
              <p:cNvSpPr/>
              <p:nvPr/>
            </p:nvSpPr>
            <p:spPr>
              <a:xfrm>
                <a:off x="1112760" y="2098080"/>
                <a:ext cx="3760200" cy="3197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Line 8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Line 9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Line 10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2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Line 13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Line 15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Line 16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Text Box 17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Text Box 18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Text Box 19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Text Box 20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Text Box 21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Text Box 22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Text Box 23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Text Box 24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Text Box 25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Line 26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Line 27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Line 28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Line 29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Text Box 30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Text Box 31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c0c0c0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Line 32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Text Box 33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(25,0 mg/L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Text Box 34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AutoShape 35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Line 37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Text Box 38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" name="Rectangle 39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900000" y="54936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METAS PROGRESSIVAS – ASPECTOS LEG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900000" y="2071800"/>
            <a:ext cx="80647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4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00000" y="1857240"/>
            <a:ext cx="8101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Resolução CNRH 16/01 art. 15 – “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a outorga para lançamento de efluentes será dada...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com base nos padrões de qualidade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correspondente à classe de enquadramento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e/ou em critérios específicos definido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nos planos de recursos hídricos ou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pelos órgãos competente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Resolução  CONAMA 357/05 art. 38 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– menciona que as ações de gestão referente ao uso dos recursos hídricos deverão basear-se nas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metas intermediária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e final de qualidade aprovadas pelo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órgão compet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os corpos de água enquadrados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– é consenso que as metas de qualidade a serem respeitadas são aquelas definidas n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Planos aprovados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pelos respectiv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Comitês de Ba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ausência de Planos, Agências de Água e Comitês de Bacia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– estabelecimento de metas progressivas pela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utoridade outorgante em conjunto com o órgão ambient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Aft>
                <a:spcPts val="87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Instrução Normativa IEMA  nº 11/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Aft>
                <a:spcPts val="87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Resolução CNRH nº 91 (publicada em fevereiro de 2009) – adotou a mesma sistemática, mas atribui ao Conselho de Recursos Hídricos a competência de aprovar as metas definid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00000" y="6429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571680" y="1643040"/>
            <a:ext cx="5786280" cy="2044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500200" y="4071960"/>
            <a:ext cx="5715000" cy="2081160"/>
          </a:xfrm>
          <a:prstGeom prst="rect">
            <a:avLst/>
          </a:prstGeom>
          <a:ln w="0">
            <a:noFill/>
          </a:ln>
        </p:spPr>
      </p:pic>
      <p:sp>
        <p:nvSpPr>
          <p:cNvPr id="248" name="Elipse 5"/>
          <p:cNvSpPr/>
          <p:nvPr/>
        </p:nvSpPr>
        <p:spPr>
          <a:xfrm>
            <a:off x="6357960" y="51436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Elipse 6"/>
          <p:cNvSpPr/>
          <p:nvPr/>
        </p:nvSpPr>
        <p:spPr>
          <a:xfrm>
            <a:off x="4071960" y="271476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0" name="Conector de seta reta 8"/>
          <p:cNvCxnSpPr/>
          <p:nvPr/>
        </p:nvCxnSpPr>
        <p:spPr>
          <a:xfrm flipV="1">
            <a:off x="4571640" y="2142360"/>
            <a:ext cx="2072520" cy="85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1" name="CaixaDeTexto 10"/>
          <p:cNvSpPr/>
          <p:nvPr/>
        </p:nvSpPr>
        <p:spPr>
          <a:xfrm>
            <a:off x="6786720" y="1928880"/>
            <a:ext cx="207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onto de Partida para a definição de padrões intermediári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Elipse 11"/>
          <p:cNvSpPr/>
          <p:nvPr/>
        </p:nvSpPr>
        <p:spPr>
          <a:xfrm>
            <a:off x="5429160" y="271476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6500880" y="1143000"/>
                <a:ext cx="2428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u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Elipse 13"/>
          <p:cNvSpPr/>
          <p:nvPr/>
        </p:nvSpPr>
        <p:spPr>
          <a:xfrm>
            <a:off x="8143920" y="1143000"/>
            <a:ext cx="642960" cy="285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Elipse 14"/>
          <p:cNvSpPr/>
          <p:nvPr/>
        </p:nvSpPr>
        <p:spPr>
          <a:xfrm>
            <a:off x="7643880" y="1428840"/>
            <a:ext cx="642960" cy="285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19:21:01Z</dcterms:created>
  <dc:creator>N55575</dc:creator>
  <dc:description/>
  <dc:language>en-US</dc:language>
  <cp:lastModifiedBy>ACER</cp:lastModifiedBy>
  <dcterms:modified xsi:type="dcterms:W3CDTF">2009-11-26T13:00:29Z</dcterms:modified>
  <cp:revision>298</cp:revision>
  <dc:subject/>
  <dc:title>Slide 1</dc:title>
</cp:coreProperties>
</file>